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1DDB-A898-4FD6-87E9-6D1B99DD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A49A-64CA-4536-8171-2EE84ADF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BBDE-7406-454C-BC99-0732C64B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C68E-D7AA-4F9F-AB7C-10AF991B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E1D6-B7D3-400B-8F21-604DD531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D599-2779-4116-AB95-DF8046B7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25DC-DE9D-4C5B-B06D-B0A6A3FF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FFF-3800-4CBE-975A-EAFA11CC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D9F5-7C3E-4FD6-B534-B26BB010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3CAB-1742-4794-936B-4100E329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497F-FD57-4E43-8577-D861FAC8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0345-A68D-4CAF-9E51-59672E8F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ACF8-DCEB-4884-8984-1BFE252D6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Classroom Arran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undra J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ompletion of assignment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in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213372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classroom arrangement of technology, and student tabl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chers De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desk1"/>
          <p:cNvSpPr/>
          <p:nvPr/>
        </p:nvSpPr>
        <p:spPr>
          <a:xfrm>
            <a:off x="3352680" y="4952880"/>
            <a:ext cx="1524240" cy="6098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able"/>
          <p:cNvSpPr/>
          <p:nvPr/>
        </p:nvSpPr>
        <p:spPr>
          <a:xfrm>
            <a:off x="7238880" y="4267080"/>
            <a:ext cx="1200240" cy="137160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86600" y="56386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e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esk1"/>
          <p:cNvSpPr/>
          <p:nvPr/>
        </p:nvSpPr>
        <p:spPr>
          <a:xfrm>
            <a:off x="762120" y="4952880"/>
            <a:ext cx="1523880" cy="6098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esk1"/>
          <p:cNvSpPr/>
          <p:nvPr/>
        </p:nvSpPr>
        <p:spPr>
          <a:xfrm>
            <a:off x="685800" y="3352680"/>
            <a:ext cx="1523880" cy="6098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esk1"/>
          <p:cNvSpPr/>
          <p:nvPr/>
        </p:nvSpPr>
        <p:spPr>
          <a:xfrm>
            <a:off x="6324480" y="2971800"/>
            <a:ext cx="1524240" cy="60948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56386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ana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6386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mato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114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r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3581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e Group and Teacher’s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19920" y="1600200"/>
            <a:ext cx="820440" cy="838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010280" y="1600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5410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nce to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66880" y="15238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wall is here posted on the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1:42:34Z</dcterms:created>
  <dc:creator>Preferred Customer</dc:creator>
  <dc:description/>
  <dc:language>en-US</dc:language>
  <cp:lastModifiedBy>Preferred Customer</cp:lastModifiedBy>
  <dcterms:modified xsi:type="dcterms:W3CDTF">2010-03-31T02:23:07Z</dcterms:modified>
  <cp:revision>4</cp:revision>
  <dc:subject/>
  <dc:title>My Classroom Arrangement</dc:title>
</cp:coreProperties>
</file>